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EDE-B8BA-4947-B992-F67FEAE4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B70-09AD-4F92-A3F8-C7939E3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DF0-8AB6-4D96-A028-A19B87B4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EE3-2368-483C-932A-BBDBF605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20B-E6DE-4B76-98A3-6B419C14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5106-6CA9-425D-B6D7-D251354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2B6A-1113-489D-8882-78B7D583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FA0-B48A-4E52-8E83-1A4E45C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197C-FE17-41A2-B290-A771F611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B06C-8380-48DD-8289-0171E53E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203-CBFB-4B01-A140-9EE20C7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111-B883-46AD-8099-92C684BF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A76F-EF3E-4D28-990C-C6221DDA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A20-23D8-4014-BD76-A57D40A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48C2-6BE9-4A58-B351-D7B6862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71BB-5BE5-4269-A1B4-8A4ADE78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B601-F58C-4705-8F39-177EB5A0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8B8-A582-48AA-A534-42F90886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385-70B4-4755-9484-992FAA1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5C9-BA34-4AC3-9B68-4B9BE747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124-4AAC-4A79-92B0-9BCB5DCA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C37-195D-4437-90EC-8C443F6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C8F-AF7C-4997-9EAB-E22D978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80E-57E3-4E7E-B739-5ABE8B8C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498E-3E1A-4F25-93DF-DEB01E458B7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ED91-033E-4F87-BF3D-085B80675F7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chepuzia.kaschenko.ru/index.php/&#1060;&#1072;&#1081;&#1083;:Matsa_skrijali.jpg-" TargetMode="External"/><Relationship Id="rId2" Type="http://schemas.openxmlformats.org/officeDocument/2006/relationships/hyperlink" Target="http://www.abc-people.com/shop/moses_prophet.htm" TargetMode="External"/><Relationship Id="rId3" Type="http://schemas.openxmlformats.org/officeDocument/2006/relationships/hyperlink" Target="http://www.abc-people.com/shop/moses_prophet.htm" TargetMode="External"/><Relationship Id="rId4" Type="http://schemas.openxmlformats.org/officeDocument/2006/relationships/hyperlink" Target="http://www.abc-people.com/shop/moses_prophet.htm" TargetMode="External"/><Relationship Id="rId5" Type="http://schemas.openxmlformats.org/officeDocument/2006/relationships/hyperlink" Target="http://www.abc-people.com/shop/moses_prophet.htm" TargetMode="External"/><Relationship Id="rId6" Type="http://schemas.openxmlformats.org/officeDocument/2006/relationships/hyperlink" Target="http://www.abc-people.com/shop/moses_prophet.htm" TargetMode="External"/><Relationship Id="rId7" Type="http://schemas.openxmlformats.org/officeDocument/2006/relationships/hyperlink" Target="http://www.abc-people.com/shop/moses_prophet.htm" TargetMode="External"/><Relationship Id="rId8" Type="http://schemas.openxmlformats.org/officeDocument/2006/relationships/hyperlink" Target="http://www.abc-people.com/shop/moses_prophet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2881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пове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http://im2-tub.yandex.net/i?id=153807802-07"/>
          <p:cNvPicPr/>
          <p:nvPr/>
        </p:nvPicPr>
        <p:blipFill>
          <a:blip r:embed="rId1"/>
          <a:stretch/>
        </p:blipFill>
        <p:spPr>
          <a:xfrm>
            <a:off x="4002120" y="333360"/>
            <a:ext cx="20718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2160720" cy="350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26028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5280" y="119664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Я — Господь Бог твой, да не будет у тебя других богов, кроме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е делай себе кумира и ни какого изображения того, что на небе вверху, что на земле внизу и что в водах ниже земли; не поклоняйся и не служи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Не произноси имени Господа Бога твоего напрас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Помни день покоя, чтобы проводить его свято; шесть дней трудись и совершай в них все твои дела, а день седьмой — день покоя — да будет посвящен Господу Богу тво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79640" y="260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заповедей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89000"/>
            <a:ext cx="6624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Почитай отца твоего и матерь твою, чтобы тебе было хорошо и чтобы ты долго жил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Не убив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Не прелюбодейств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Не кр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Не л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Не завид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68360" y="537372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16036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443700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ди,любите друг друг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Железо ржа съедает, а завис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ивый от зависти погиб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 ищи правды в други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ли её в тебе 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ру потакать – ч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мому воро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свете всё найдёшь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оме отца и мате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силие яд для д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072120" y="15001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завиду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кругленный прямоугольник 6"/>
          <p:cNvSpPr/>
          <p:nvPr/>
        </p:nvSpPr>
        <p:spPr>
          <a:xfrm>
            <a:off x="6072120" y="24289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к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072120" y="33577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би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6072120" y="435780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л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9"/>
          <p:cNvSpPr/>
          <p:nvPr/>
        </p:nvSpPr>
        <p:spPr>
          <a:xfrm>
            <a:off x="6143760" y="535788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итай отца твоего и матерь т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404640"/>
            <a:ext cx="7274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езентации  используются личные фотографии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Египет: монастырь Святой Екатерины), гора Моисея- фото с монастыря Св.Екатер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Кондуктор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КОУ «Лахденпох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9500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kaschepuzia.kaschenko.ru/index.php/%D0%A4%D0%B0%D0%B9%D0%BB:Matsa_skrijali.jpg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бник из дер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4172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Моисей,гора Синай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abc-people.com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6"/>
              </a:rPr>
              <a:t>sho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8"/>
              </a:rPr>
              <a:t>moses_prophet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3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из интерне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14:06:29Z</dcterms:modified>
  <cp:revision>29</cp:revision>
  <dc:subject/>
  <dc:title>Слайд 1</dc:title>
</cp:coreProperties>
</file>